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9.png" ContentType="image/png"/>
  <Override PartName="/ppt/media/coin.wav" ContentType="audio/x-wav"/>
  <Override PartName="/ppt/media/image11.png" ContentType="image/png"/>
  <Override PartName="/ppt/media/image19.png" ContentType="image/png"/>
  <Override PartName="/ppt/media/image16.png" ContentType="image/png"/>
  <Override PartName="/ppt/media/whoosh.wav" ContentType="audio/x-wav"/>
  <Override PartName="/ppt/media/image15.jpeg" ContentType="image/jpeg"/>
  <Override PartName="/ppt/media/image25.wmf" ContentType="image/x-wmf"/>
  <Override PartName="/ppt/media/image13.png" ContentType="image/png"/>
  <Override PartName="/ppt/media/image12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voltage.wav" ContentType="audio/x-wav"/>
  <Override PartName="/ppt/media/image1.png" ContentType="image/png"/>
  <Override PartName="/ppt/media/image31.png" ContentType="image/png"/>
  <Override PartName="/ppt/media/push.wav" ContentType="audio/x-wav"/>
  <Override PartName="/ppt/media/image23.png" ContentType="image/png"/>
  <Override PartName="/ppt/media/image17.png" ContentType="image/png"/>
  <Override PartName="/ppt/media/image3.png" ContentType="image/png"/>
  <Override PartName="/ppt/media/image33.png" ContentType="image/png"/>
  <Override PartName="/ppt/media/image5.wmf" ContentType="image/x-wmf"/>
  <Override PartName="/ppt/media/laser.wav" ContentType="audio/x-wav"/>
  <Override PartName="/ppt/media/image26.png" ContentType="image/png"/>
  <Override PartName="/ppt/media/image27.jpeg" ContentType="image/jpeg"/>
  <Override PartName="/ppt/media/image30.wmf" ContentType="image/x-wmf"/>
  <Override PartName="/ppt/media/drumroll.wav" ContentType="audio/x-wav"/>
  <Override PartName="/ppt/media/image28.png" ContentType="image/png"/>
  <Override PartName="/ppt/media/arrow.wav" ContentType="audio/x-wav"/>
  <Override PartName="/ppt/media/image38.wmf" ContentType="image/x-wmf"/>
  <Override PartName="/ppt/media/image34.wmf" ContentType="image/x-wmf"/>
  <Override PartName="/ppt/media/breeze.wav" ContentType="audio/x-wav"/>
  <Override PartName="/ppt/media/camera.wav" ContentType="audio/x-wav"/>
  <Override PartName="/ppt/media/applause.wav" ContentType="audio/x-wav"/>
  <Override PartName="/ppt/media/image35.png" ContentType="image/png"/>
  <Override PartName="/ppt/media/wind.wav" ContentType="audio/x-wav"/>
  <Override PartName="/ppt/media/image24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cashreg.wav" ContentType="audio/x-wav"/>
  <Override PartName="/ppt/media/image9.png" ContentType="image/png"/>
  <Override PartName="/ppt/media/image4.png" ContentType="image/png"/>
  <Override PartName="/ppt/media/image8.png" ContentType="image/png"/>
  <Override PartName="/ppt/media/image14.jpeg" ContentType="image/jpeg"/>
  <Override PartName="/ppt/media/suction.wav" ContentType="audio/x-wav"/>
  <Override PartName="/ppt/media/image32.png" ContentType="image/png"/>
  <Override PartName="/ppt/media/image2.png" ContentType="image/png"/>
  <Override PartName="/ppt/media/image10.wmf" ContentType="image/x-wmf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008-CA6F-4DCC-AAC5-8755342C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447F-2A7E-474B-B5C9-B335D1480E23}" type="slidenum">
              <a:rPr b="0" lang="es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EF9-1DEB-4EE1-B5EA-70221026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2CE-8BB6-4792-B224-D38EA77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3A8-9712-41C5-841D-B025D133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96B-1FE4-4AF8-BE58-00A4335A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343-B0F9-4946-86FD-E0FA9A4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939-74CA-4042-8A1F-86611AE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571-1112-4055-80D6-DBB1EFD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0FE-0F54-4944-9482-3CA8261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94D-6D8C-4BAA-9EA8-3F26E0F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B97-D562-4060-9078-C9E1B853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648-37CB-4F9D-8AD3-D101E86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59E-9ADD-44B9-B183-A98DB58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931-F297-4FE7-A2F5-2A599299A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es.wikipedia.org/wiki/Archivo:Toga_Illustration.png" TargetMode="External"/><Relationship Id="rId5" Type="http://schemas.openxmlformats.org/officeDocument/2006/relationships/image" Target="../media/image19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hyperlink" Target="http://es.wikipedia.org/wiki/Archivo:Magdalenenberg_fibeln.jpg" TargetMode="External"/><Relationship Id="rId7" Type="http://schemas.openxmlformats.org/officeDocument/2006/relationships/image" Target="../media/image22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Título" descr=""/>
          <p:cNvPicPr/>
          <p:nvPr/>
        </p:nvPicPr>
        <p:blipFill>
          <a:blip r:embed="rId1"/>
          <a:stretch/>
        </p:blipFill>
        <p:spPr>
          <a:xfrm>
            <a:off x="536400" y="1957320"/>
            <a:ext cx="8180640" cy="1876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9" name="2 Subtítulo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6438960" cy="166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  <p:sndAc>
      <p:stSnd>
        <p:snd r:embed="rId3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Tra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2 Marcador de contenido"/>
          <p:cNvGrpSpPr/>
          <p:nvPr/>
        </p:nvGrpSpPr>
        <p:grpSpPr>
          <a:xfrm>
            <a:off x="380880" y="1579680"/>
            <a:ext cx="8670600" cy="4516200"/>
            <a:chOff x="380880" y="1579680"/>
            <a:chExt cx="8670600" cy="4516200"/>
          </a:xfrm>
        </p:grpSpPr>
        <p:pic>
          <p:nvPicPr>
            <p:cNvPr id="89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0880" y="1579680"/>
              <a:ext cx="8670600" cy="45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0200" y="1598400"/>
              <a:ext cx="8255160" cy="416016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En Roma existieron los primeros grangero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Los trabajadores eran nomadas 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" descr="agricultor-andrea"/>
          <p:cNvPicPr/>
          <p:nvPr/>
        </p:nvPicPr>
        <p:blipFill>
          <a:blip r:embed="rId2"/>
          <a:stretch/>
        </p:blipFill>
        <p:spPr>
          <a:xfrm>
            <a:off x="3124080" y="4038480"/>
            <a:ext cx="3340080" cy="175284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Tra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2 Marcador de contenido"/>
          <p:cNvGrpSpPr/>
          <p:nvPr/>
        </p:nvGrpSpPr>
        <p:grpSpPr>
          <a:xfrm>
            <a:off x="384120" y="1457280"/>
            <a:ext cx="8723520" cy="4888080"/>
            <a:chOff x="384120" y="1457280"/>
            <a:chExt cx="8723520" cy="4888080"/>
          </a:xfrm>
        </p:grpSpPr>
        <p:pic>
          <p:nvPicPr>
            <p:cNvPr id="94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4120" y="1457280"/>
              <a:ext cx="872352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Los ricos tenian plebellos como esclabo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A los “plebellos “</a:t>
              </a: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 o esclabos se les quitaba sus tierra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Los jueces tenian el poder de parar los castigos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D:\Users\Marco Gavilanes\AppData\Local\Microsoft\Windows\Temporary Internet Files\Content.IE5\XAI6H5AN\MCBD07104_0000[1].wmf"/>
          <p:cNvPicPr/>
          <p:nvPr/>
        </p:nvPicPr>
        <p:blipFill>
          <a:blip r:embed="rId5"/>
          <a:stretch/>
        </p:blipFill>
        <p:spPr>
          <a:xfrm>
            <a:off x="3200400" y="434340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6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98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rabajos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4 Marcador de contenido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101" name="4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9360">
              <a:solidFill>
                <a:srgbClr val="ffff66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 minera era un trabajo peligroso hecho principalmenta para lo esclabos o  o criminal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s condiciones en las minas eran muy peligrosas y desagradable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Roma antigua importo parte de sus minerales como el oro a España y a Greci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3" descr="D:\Users\Marco Gavilanes\AppData\Local\Microsoft\Windows\Temporary Internet Files\Content.IE5\FFBXYC2X\MCj02306070000[1].wmf"/>
          <p:cNvPicPr/>
          <p:nvPr/>
        </p:nvPicPr>
        <p:blipFill>
          <a:blip r:embed="rId6"/>
          <a:stretch/>
        </p:blipFill>
        <p:spPr>
          <a:xfrm>
            <a:off x="5105520" y="5181480"/>
            <a:ext cx="3751200" cy="293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7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5" name="6 Marcador de contenido"/>
          <p:cNvGrpSpPr/>
          <p:nvPr/>
        </p:nvGrpSpPr>
        <p:grpSpPr>
          <a:xfrm>
            <a:off x="457200" y="1523880"/>
            <a:ext cx="8242200" cy="4114800"/>
            <a:chOff x="457200" y="1523880"/>
            <a:chExt cx="8242200" cy="4114800"/>
          </a:xfrm>
        </p:grpSpPr>
        <p:pic>
          <p:nvPicPr>
            <p:cNvPr id="106" name="6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42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63320" y="1529280"/>
              <a:ext cx="8229240" cy="4106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El esclavo era considerado un ser humano inferior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 </a:t>
              </a: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Para los romanos el destino natural de los esclavos era servir a sus amos con entrega y fidelidad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 </a:t>
              </a: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Los esclavos formaba parte de la familia y por lo tanto no se les quería  y se les castigaba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7" descr="D:\Users\Marco Gavilanes\AppData\Local\Microsoft\Windows\Temporary Internet Files\Content.IE5\FFBXYC2X\MCj04357180000[1].wmf"/>
          <p:cNvPicPr/>
          <p:nvPr/>
        </p:nvPicPr>
        <p:blipFill>
          <a:blip r:embed="rId6"/>
          <a:stretch/>
        </p:blipFill>
        <p:spPr>
          <a:xfrm>
            <a:off x="3276720" y="3581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  <p:sndAc>
      <p:stSnd>
        <p:snd r:embed="rId7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lav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No habían reglas para tratar a un escl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No habían derechos para los esclav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Hubo esclavos que tenían  funcionarios públicos que se ocupaban de los asuntos administrativos del 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cc"/>
                </a:solidFill>
                <a:latin typeface="Harrington"/>
              </a:rPr>
              <a:t>Bibliograf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Isabel Yegue.”La cocina en la roma antigua.”http://www.ihistori101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” Lionel Munby, M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ank you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rea, Alejandra and Estefania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ank you all for your attention and you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GO     HUSKIES!!!!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2 Marcador de contenido"/>
          <p:cNvGrpSpPr/>
          <p:nvPr/>
        </p:nvGrpSpPr>
        <p:grpSpPr>
          <a:xfrm>
            <a:off x="255600" y="1530360"/>
            <a:ext cx="8278920" cy="4336920"/>
            <a:chOff x="255600" y="1530360"/>
            <a:chExt cx="8278920" cy="4336920"/>
          </a:xfrm>
        </p:grpSpPr>
        <p:pic>
          <p:nvPicPr>
            <p:cNvPr id="52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255600" y="1530360"/>
              <a:ext cx="8278920" cy="43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48200" y="1659960"/>
              <a:ext cx="7876080" cy="40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Tres eran las comidas preferidas : ientalcum era el desayuno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Ellos comian pan fruta pan y ques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Ellos tenian </a:t>
              </a: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 vino pero las mujeres no podian tomar vin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4 Rectángulo" descr=""/>
          <p:cNvPicPr/>
          <p:nvPr/>
        </p:nvPicPr>
        <p:blipFill>
          <a:blip r:embed="rId2"/>
          <a:stretch/>
        </p:blipFill>
        <p:spPr>
          <a:xfrm>
            <a:off x="1444680" y="201600"/>
            <a:ext cx="59626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6 Corazón"/>
          <p:cNvSpPr/>
          <p:nvPr/>
        </p:nvSpPr>
        <p:spPr>
          <a:xfrm>
            <a:off x="609480" y="1828800"/>
            <a:ext cx="152640" cy="2286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D:\Users\Marco Gavilanes\AppData\Local\Microsoft\Windows\Temporary Internet Files\Content.IE5\5JW1BJWN\MCj04062100000[1].wmf"/>
          <p:cNvPicPr/>
          <p:nvPr/>
        </p:nvPicPr>
        <p:blipFill>
          <a:blip r:embed="rId3"/>
          <a:stretch/>
        </p:blipFill>
        <p:spPr>
          <a:xfrm>
            <a:off x="5715000" y="3809880"/>
            <a:ext cx="1327320" cy="18068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4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2 Marcador de contenido"/>
          <p:cNvGrpSpPr/>
          <p:nvPr/>
        </p:nvGrpSpPr>
        <p:grpSpPr>
          <a:xfrm>
            <a:off x="279360" y="1143000"/>
            <a:ext cx="8864640" cy="4888080"/>
            <a:chOff x="279360" y="1143000"/>
            <a:chExt cx="8864640" cy="4888080"/>
          </a:xfrm>
        </p:grpSpPr>
        <p:pic>
          <p:nvPicPr>
            <p:cNvPr id="58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279360" y="1143000"/>
              <a:ext cx="8864640" cy="4888080"/>
            </a:xfrm>
            <a:prstGeom prst="rect">
              <a:avLst/>
            </a:prstGeom>
            <a:ln w="9360">
              <a:solidFill>
                <a:srgbClr val="99ff66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480960" y="128592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6666ff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os ricos tenían una variedad de comida para consumir ,su desayuno era pan y ques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a harina que ello tenían fue picada entre dos piedras pesadas y luego cerni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a comida constaba principal mente en sopa y carne  hervi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762120" y="304920"/>
            <a:ext cx="7372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idas De La Roma Antigu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 spokes="1"/>
    <p:sndAc>
      <p:stSnd>
        <p:snd r:embed="rId2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000" spc="-1" strike="noStrike">
                <a:solidFill>
                  <a:srgbClr val="000000"/>
                </a:solidFill>
                <a:latin typeface="Arial"/>
              </a:rPr>
              <a:t>La comida de una familia rica ,para una fiesta</a:t>
            </a:r>
            <a:r>
              <a:rPr b="0" lang="es-US" sz="4000" spc="-1" strike="noStrike">
                <a:solidFill>
                  <a:srgbClr val="7030a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255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Fécula es un banquete que consiste en 5 o mas platos mayormente car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Ellos también mezclaban el vino con el agua como los Grie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Ellos no tenían cubiertos por lo que comían con las 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0108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La gargantilla fue un adorno caracteristico de las mujeres roman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algunos se hacian de hierro ,de oro y br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Users\Marco Gavilanes\AppData\Local\Microsoft\Windows\Temporary Internet Files\Content.IE5\5JW1BJWN\MCj03205700000[1].wmf"/>
          <p:cNvPicPr/>
          <p:nvPr/>
        </p:nvPicPr>
        <p:blipFill>
          <a:blip r:embed="rId2"/>
          <a:stretch/>
        </p:blipFill>
        <p:spPr>
          <a:xfrm>
            <a:off x="3505320" y="4267080"/>
            <a:ext cx="1828800" cy="1824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" name="2 Marcador de contenido"/>
          <p:cNvGrpSpPr/>
          <p:nvPr/>
        </p:nvGrpSpPr>
        <p:grpSpPr>
          <a:xfrm>
            <a:off x="304920" y="1457280"/>
            <a:ext cx="8229600" cy="4257720"/>
            <a:chOff x="304920" y="1457280"/>
            <a:chExt cx="8229600" cy="4257720"/>
          </a:xfrm>
        </p:grpSpPr>
        <p:pic>
          <p:nvPicPr>
            <p:cNvPr id="68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304920" y="1457280"/>
              <a:ext cx="8229600" cy="42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4400" y="1581480"/>
              <a:ext cx="786240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Las mujeres ricas se vestian con vestidos muy finos y elegantes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Los hombres pobres usaban sandalias y los ricos botas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En este tiempo hay una pasarela que tiene vestidos antiguos</a:t>
              </a:r>
              <a:r>
                <a:rPr b="0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roman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5" descr="Raoman Statue"/>
          <p:cNvPicPr/>
          <p:nvPr/>
        </p:nvPicPr>
        <p:blipFill>
          <a:blip r:embed="rId6"/>
          <a:stretch/>
        </p:blipFill>
        <p:spPr>
          <a:xfrm>
            <a:off x="5715000" y="3048120"/>
            <a:ext cx="129528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n del desfile de Paul&amp;Joe. FOTO: Podium Pictures."/>
          <p:cNvPicPr/>
          <p:nvPr/>
        </p:nvPicPr>
        <p:blipFill>
          <a:blip r:embed="rId7"/>
          <a:stretch/>
        </p:blipFill>
        <p:spPr>
          <a:xfrm>
            <a:off x="457200" y="3505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8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1"/>
          <a:stretch/>
        </p:blipFill>
        <p:spPr>
          <a:xfrm>
            <a:off x="530280" y="682560"/>
            <a:ext cx="8242200" cy="1152720"/>
          </a:xfrm>
          <a:prstGeom prst="rect">
            <a:avLst/>
          </a:prstGeom>
          <a:ln w="0">
            <a:noFill/>
          </a:ln>
        </p:spPr>
      </p:pic>
      <p:grpSp>
        <p:nvGrpSpPr>
          <p:cNvPr id="73" name="5 Marcador de contenido"/>
          <p:cNvGrpSpPr/>
          <p:nvPr/>
        </p:nvGrpSpPr>
        <p:grpSpPr>
          <a:xfrm>
            <a:off x="384120" y="1762200"/>
            <a:ext cx="8521920" cy="4583160"/>
            <a:chOff x="384120" y="1762200"/>
            <a:chExt cx="8521920" cy="4583160"/>
          </a:xfrm>
        </p:grpSpPr>
        <p:pic>
          <p:nvPicPr>
            <p:cNvPr id="74" name="5 Marcador de contenido" descr=""/>
            <p:cNvPicPr/>
            <p:nvPr/>
          </p:nvPicPr>
          <p:blipFill>
            <a:blip r:embed="rId2"/>
            <a:stretch/>
          </p:blipFill>
          <p:spPr>
            <a:xfrm>
              <a:off x="384120" y="1762200"/>
              <a:ext cx="8521920" cy="45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57200" y="1905120"/>
              <a:ext cx="8229600" cy="42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d99694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b050"/>
                  </a:solidFill>
                  <a:latin typeface="Calibri"/>
                </a:rPr>
                <a:t>El traje en la antigua Roma constaba de dos tipos de piezas como el Griego llamados indutus las interiores y amidutus las exterior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5" descr="180px-Toga_Illust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3429000"/>
            <a:ext cx="1714680" cy="3162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6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Vestid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2 Marcador de contenido"/>
          <p:cNvGrpSpPr/>
          <p:nvPr/>
        </p:nvGrpSpPr>
        <p:grpSpPr>
          <a:xfrm>
            <a:off x="384120" y="1457280"/>
            <a:ext cx="8583840" cy="4888080"/>
            <a:chOff x="384120" y="1457280"/>
            <a:chExt cx="8583840" cy="4888080"/>
          </a:xfrm>
        </p:grpSpPr>
        <p:pic>
          <p:nvPicPr>
            <p:cNvPr id="79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4120" y="1457280"/>
              <a:ext cx="858384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os romanos no solon vestian con la indutus si no que aveces llevaban otra cosa por dentro parecida a las camisas cerrado con un fibula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os colores generalmente era el blanc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Cada persona con un cargo tenia un color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220px-Magdalenenberg_fibel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5334120"/>
            <a:ext cx="2095560" cy="981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8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8340000"/>
          </a:gradFill>
          <a:ln w="9360">
            <a:solidFill>
              <a:srgbClr val="9900c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Vestidura por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11 Marcador de contenido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84" name="11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9360">
              <a:solidFill>
                <a:srgbClr val="9900cc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os que aspiraban a la magistratura vestían de blanc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os niños llevaban morado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 toga era muy exótica por  que era bordada con oro algunas tnían rayas mora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5" descr="D:\Users\Marco Gavilanes\AppData\Local\Microsoft\Windows\Temporary Internet Files\Content.IE5\1TRZJIO5\MCj04342970000[1].wmf"/>
          <p:cNvPicPr/>
          <p:nvPr/>
        </p:nvPicPr>
        <p:blipFill>
          <a:blip r:embed="rId5"/>
          <a:stretch/>
        </p:blipFill>
        <p:spPr>
          <a:xfrm>
            <a:off x="3505320" y="4419720"/>
            <a:ext cx="1876320" cy="148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6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23:48Z</dcterms:created>
  <dc:creator>School District U46</dc:creator>
  <dc:description/>
  <dc:language>en-US</dc:language>
  <cp:lastModifiedBy>School District U46</cp:lastModifiedBy>
  <dcterms:modified xsi:type="dcterms:W3CDTF">2009-03-17T19:19:11Z</dcterms:modified>
  <cp:revision>5</cp:revision>
  <dc:subject/>
  <dc:title>Slide 1</dc:title>
</cp:coreProperties>
</file>